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87A-E590-49FA-AFF7-1F358D3F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038-EF77-4840-B5CA-1B962BE3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EE9-A930-4D90-93B3-4D812580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707-E179-4AB3-8AE1-CD66AA69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C2C8-C1B2-48CD-896A-0A925A3A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C826-B670-45C0-8499-4C5EA3C9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33F5-B395-4754-8C91-54A89013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265F-2DF8-4501-BB09-E670F252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DD4-620B-488E-AB03-0195FF98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AE5F-952B-4824-B323-4C3D0508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2726-D700-4493-8FC7-C58322A9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C8A-2328-47D1-B3FE-418FED46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4B1F-F76A-465A-B040-C098C0B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5CC2-C311-4381-BE16-7287C85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7AA0-5A3B-45E3-B520-8B9B12DC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8E7A-F84D-4F6E-BD36-02546E85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CAA6-09C5-4387-A8DD-8ED6642F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8FD-FAA8-41A8-B532-40EEF07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B09-7D4D-4044-97BF-F74F49EF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402-9205-4BF3-8627-5664210F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8ED-C05A-486C-B4F8-62F8F6C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F45-4A72-4A64-9B01-A55478C2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BF5-F086-4CD4-9AA5-9A1A3FC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062-312B-40A3-987D-405677A1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233C-0A0D-4F41-88BF-5C5458338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6886-F4EC-4937-A2FD-542BEBAAAC80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hyperlink" Target="Macintosh HD:Applications:Internet Explorer.app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ct"/><Relationship Id="rId7" Type="http://schemas.openxmlformats.org/officeDocument/2006/relationships/hyperlink" Target="Macintosh HD:Applications:Internet Explorer.app" TargetMode="External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hyperlink" Target="Macintosh HD:Applications:Internet Explorer.app" TargetMode="External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hyperlink" Target="Macintosh HD:Applications:Internet Explorer.app" TargetMode="External"/><Relationship Id="rId5" Type="http://schemas.openxmlformats.org/officeDocument/2006/relationships/image" Target="../media/image6.pct"/><Relationship Id="rId6" Type="http://schemas.openxmlformats.org/officeDocument/2006/relationships/hyperlink" Target="Macintosh HD:Internet:Internet Applications:Microsoft Internet 5:Internet Explorer 5 Folder:Internet Explorer" TargetMode="External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hyperlink" Target="http://staff.howard.k12.md.us/~despitia/webq/webq.html" TargetMode="External"/><Relationship Id="rId4" Type="http://schemas.openxmlformats.org/officeDocument/2006/relationships/hyperlink" Target="http://staff.howard.k12.md.us/~despitia/webq/webq.html" TargetMode="External"/><Relationship Id="rId5" Type="http://schemas.openxmlformats.org/officeDocument/2006/relationships/hyperlink" Target="http://staff.howard.k12.md.us/~despitia/webq/webq.html" TargetMode="External"/><Relationship Id="rId6" Type="http://schemas.openxmlformats.org/officeDocument/2006/relationships/hyperlink" Target="Macintosh HD:Applications:Safari.app" TargetMode="Externa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hyperlink" Target="Macintosh HD:Applications:Safari.app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hyperlink" Target="Macintosh HD:Applications:Safari.app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hyperlink" Target="Macintosh HD:Internet:Internet Applications:Netscape Communicator&#8482; Folder:Netscape Communicator&#8482;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staff.howard.k12.md.us/~despitia/dod/muertos2.html" TargetMode="External"/><Relationship Id="rId3" Type="http://schemas.openxmlformats.org/officeDocument/2006/relationships/image" Target="../media/image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ct"/><Relationship Id="rId8" Type="http://schemas.openxmlformats.org/officeDocument/2006/relationships/hyperlink" Target="Macintosh HD:Applications:Internet Explorer.app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hyperlink" Target="Macintosh HD:Applications:Internet Explorer.app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hyperlink" Target="Macintosh HD:Applications:Internet Explorer.app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55760" y="0"/>
            <a:ext cx="65660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7983360" y="5465880"/>
          <a:ext cx="1155960" cy="13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3360" y="5465880"/>
                    <a:ext cx="115596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7843680" y="5473800"/>
            <a:ext cx="1067040" cy="137160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63">
                <a:moveTo>
                  <a:pt x="0" y="0"/>
                </a:moveTo>
                <a:lnTo>
                  <a:pt x="21600" y="0"/>
                </a:lnTo>
                <a:lnTo>
                  <a:pt x="21600" y="27763"/>
                </a:lnTo>
                <a:lnTo>
                  <a:pt x="0" y="27763"/>
                </a:lnTo>
                <a:close/>
              </a:path>
              <a:path fill="lightenLess" w="21600" h="27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3">
                <a:moveTo>
                  <a:pt x="21600" y="0"/>
                </a:moveTo>
                <a:lnTo>
                  <a:pt x="21600" y="27763"/>
                </a:lnTo>
                <a:lnTo>
                  <a:pt x="20200" y="26363"/>
                </a:lnTo>
                <a:lnTo>
                  <a:pt x="20200" y="1400"/>
                </a:lnTo>
                <a:close/>
              </a:path>
              <a:path fill="darkenLess" w="21600" h="27763">
                <a:moveTo>
                  <a:pt x="21600" y="27763"/>
                </a:moveTo>
                <a:lnTo>
                  <a:pt x="0" y="27763"/>
                </a:lnTo>
                <a:lnTo>
                  <a:pt x="1400" y="26363"/>
                </a:lnTo>
                <a:lnTo>
                  <a:pt x="20200" y="26363"/>
                </a:lnTo>
                <a:close/>
              </a:path>
              <a:path fill="lighten" w="21600" h="27763">
                <a:moveTo>
                  <a:pt x="0" y="27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LEARNING ADV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324480" y="2209680"/>
          <a:ext cx="22860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09680"/>
                    <a:ext cx="2286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1103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ime 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Graphing/Statist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Graphic Organiz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ading Strate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riting Strate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Problem-solving Strateg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5521320"/>
          <a:ext cx="12985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2132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>
            <a:hlinkClick r:id="rId5"/>
          </p:cNvPr>
          <p:cNvSpPr/>
          <p:nvPr/>
        </p:nvSpPr>
        <p:spPr>
          <a:xfrm>
            <a:off x="88920" y="548640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867280" y="1600200"/>
          <a:ext cx="1828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60020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962520"/>
          <a:ext cx="190512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62520"/>
                    <a:ext cx="190512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2133360"/>
            <a:ext cx="54104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net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Ema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Message Bo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Video Conferenc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04640" indent="-404640" algn="just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hat Roo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>
            <a:hlinkClick r:id="rId7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162920" y="609480"/>
            <a:ext cx="1360440" cy="2274840"/>
            <a:chOff x="7162920" y="609480"/>
            <a:chExt cx="1360440" cy="2274840"/>
          </a:xfrm>
        </p:grpSpPr>
        <p:graphicFrame>
          <p:nvGraphicFramePr>
            <p:cNvPr id="170" name=""/>
            <p:cNvGraphicFramePr/>
            <p:nvPr/>
          </p:nvGraphicFramePr>
          <p:xfrm>
            <a:off x="7162920" y="609480"/>
            <a:ext cx="1360440" cy="227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2920" y="609480"/>
                      <a:ext cx="1360440" cy="22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"/>
            <p:cNvSpPr txBox="1"/>
            <p:nvPr/>
          </p:nvSpPr>
          <p:spPr>
            <a:xfrm>
              <a:off x="7543800" y="914400"/>
              <a:ext cx="533520" cy="228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UEN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7467480" y="914400"/>
              <a:ext cx="685800" cy="457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RABAJO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EVALU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37040" indent="-437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Understanding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of cont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Proficienc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with a skill or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Quality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of a product or perform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705720" y="1600200"/>
            <a:ext cx="533160" cy="22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EN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>
            <a:hlinkClick r:id="rId5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90920" y="1900080"/>
            <a:ext cx="3962160" cy="3988080"/>
            <a:chOff x="2590920" y="1900080"/>
            <a:chExt cx="3962160" cy="3988080"/>
          </a:xfrm>
        </p:grpSpPr>
        <p:graphicFrame>
          <p:nvGraphicFramePr>
            <p:cNvPr id="184" name=""/>
            <p:cNvGraphicFramePr/>
            <p:nvPr/>
          </p:nvGraphicFramePr>
          <p:xfrm>
            <a:off x="2590920" y="1900080"/>
            <a:ext cx="3962160" cy="398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1900080"/>
                      <a:ext cx="3962160" cy="39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 txBox="1"/>
            <p:nvPr/>
          </p:nvSpPr>
          <p:spPr>
            <a:xfrm>
              <a:off x="3816360" y="2260440"/>
              <a:ext cx="13971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AHA!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>
            <a:hlinkClick r:id="rId6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0720" y="9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MAKES AN EFFECTIVE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574720"/>
            <a:ext cx="91440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ff"/>
                </a:solidFill>
                <a:uFillTx/>
                <a:latin typeface="Stone Sans SC ITC TT-Semi"/>
                <a:hlinkClick r:id="rId3"/>
              </a:rPr>
              <a:t>http://staff.howard.k12.md.</a:t>
            </a:r>
            <a:r>
              <a:rPr b="0" lang="en-US" sz="5400" spc="-1" strike="noStrike" u="sng">
                <a:solidFill>
                  <a:srgbClr val="cc66ff"/>
                </a:solidFill>
                <a:uFillTx/>
                <a:latin typeface="Stone Sans SC ITC TT-Semi"/>
                <a:hlinkClick r:id="rId4"/>
              </a:rPr>
              <a:t>us/~despitia/webq/webq</a:t>
            </a:r>
            <a:r>
              <a:rPr b="0" lang="en-US" sz="5400" spc="-1" strike="noStrike" u="sng">
                <a:solidFill>
                  <a:srgbClr val="cc66ff"/>
                </a:solidFill>
                <a:uFillTx/>
                <a:latin typeface="Stone Sans SC ITC TT-Semi"/>
                <a:hlinkClick r:id="rId5"/>
              </a:rPr>
              <a:t>.htm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rId6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0720" y="9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MAKES AN EFFECTIVE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92120" y="2350800"/>
            <a:ext cx="6167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im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tructur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operativ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Higher-orde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ctivist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3640" indent="-413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3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851280" y="1311120"/>
          <a:ext cx="44449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311120"/>
                    <a:ext cx="4444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UDENT MOTIV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90680" y="2188800"/>
            <a:ext cx="6508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5120" indent="-46512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entral Questi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3851280" y="1311120"/>
          <a:ext cx="44449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311120"/>
                    <a:ext cx="4444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7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ENTRAL QUES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6680" y="1920600"/>
            <a:ext cx="6508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1000"/>
          </a:bodyPr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World Probl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Evaluation of his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ion of a produ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Life’s rea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3680" indent="-2836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Imaginati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851280" y="1311120"/>
          <a:ext cx="4444920" cy="33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311120"/>
                    <a:ext cx="4444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STUDENT MOTIV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90680" y="2188800"/>
            <a:ext cx="6508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entral Question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o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al 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al Aud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2603520" y="2165400"/>
          <a:ext cx="4043520" cy="44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3520" y="2165400"/>
                    <a:ext cx="404352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FOR FURTHER STUDY . . 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90320" y="2188800"/>
            <a:ext cx="6885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376560" indent="-37656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onstructivism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76560" indent="-37656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Performance Assess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40960" indent="-37116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ay McTig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40960" indent="-37116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Grant Wigg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rId5"/>
          </p:cNvPr>
          <p:cNvSpPr/>
          <p:nvPr/>
        </p:nvSpPr>
        <p:spPr>
          <a:xfrm>
            <a:off x="7848720" y="548316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00200" y="1981080"/>
          <a:ext cx="601992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81080"/>
                    <a:ext cx="601992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0720" y="9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UILDING A WEBQUES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482920" y="2279520"/>
            <a:ext cx="466416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op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Central Ques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esour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Learn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Rubr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8487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260360" y="1954080"/>
          <a:ext cx="1032120" cy="42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360" y="1954080"/>
                    <a:ext cx="10321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2480" y="22856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A WebQuest is an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inquiry-oriented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activity in which most or all of the information used by learners is drawn from the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Times New Roman"/>
              </a:rPr>
              <a:t>Web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9320" y="21067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  <a:ea typeface="Times New Roman"/>
              </a:rPr>
              <a:t>GO FET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720960" y="1741320"/>
            <a:ext cx="1482840" cy="1473480"/>
          </a:xfrm>
          <a:prstGeom prst="noSmoking">
            <a:avLst>
              <a:gd name="adj" fmla="val 476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193840" y="2913120"/>
          <a:ext cx="4484880" cy="32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3840" y="2913120"/>
                    <a:ext cx="44848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>
            <a:hlinkClick r:id="rId5"/>
          </p:cNvPr>
          <p:cNvSpPr/>
          <p:nvPr/>
        </p:nvSpPr>
        <p:spPr>
          <a:xfrm>
            <a:off x="7043760" y="5479920"/>
            <a:ext cx="1871640" cy="1371600"/>
          </a:xfrm>
          <a:custGeom>
            <a:avLst/>
            <a:gdLst>
              <a:gd name="textAreaLeft" fmla="*/ 88560 w 1871640"/>
              <a:gd name="textAreaRight" fmla="*/ 1783080 w 18716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9473" h="21600">
                <a:moveTo>
                  <a:pt x="0" y="0"/>
                </a:moveTo>
                <a:lnTo>
                  <a:pt x="29473" y="0"/>
                </a:lnTo>
                <a:lnTo>
                  <a:pt x="29473" y="21600"/>
                </a:lnTo>
                <a:lnTo>
                  <a:pt x="0" y="21600"/>
                </a:lnTo>
                <a:close/>
              </a:path>
              <a:path fill="lightenLess" w="29473" h="21600">
                <a:moveTo>
                  <a:pt x="0" y="0"/>
                </a:moveTo>
                <a:lnTo>
                  <a:pt x="29473" y="0"/>
                </a:lnTo>
                <a:lnTo>
                  <a:pt x="28073" y="1400"/>
                </a:lnTo>
                <a:lnTo>
                  <a:pt x="1400" y="1400"/>
                </a:lnTo>
                <a:close/>
              </a:path>
              <a:path fill="darken" w="29473" h="21600">
                <a:moveTo>
                  <a:pt x="29473" y="0"/>
                </a:moveTo>
                <a:lnTo>
                  <a:pt x="29473" y="21600"/>
                </a:lnTo>
                <a:lnTo>
                  <a:pt x="28073" y="20200"/>
                </a:lnTo>
                <a:lnTo>
                  <a:pt x="28073" y="1400"/>
                </a:lnTo>
                <a:close/>
              </a:path>
              <a:path fill="darkenLess" w="29473" h="21600">
                <a:moveTo>
                  <a:pt x="29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73" y="20200"/>
                </a:lnTo>
                <a:close/>
              </a:path>
              <a:path fill="lighten" w="29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Bernie Dod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Times New Roman"/>
              </a:rPr>
              <a:t>Tom M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WHAT IS A WEBQUES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6804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48840" indent="-348840" algn="just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hort-ter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nowledge Acqui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 algn="just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Long-ter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xtending 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78680" indent="-343800" algn="just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ef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934320" y="5546880"/>
          <a:ext cx="1981080" cy="109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546880"/>
                    <a:ext cx="1981080" cy="109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988400" y="5472000"/>
          <a:ext cx="11556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88400" y="547200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2590920" y="1900080"/>
            <a:ext cx="3962160" cy="3988080"/>
            <a:chOff x="2590920" y="1900080"/>
            <a:chExt cx="3962160" cy="3988080"/>
          </a:xfrm>
        </p:grpSpPr>
        <p:graphicFrame>
          <p:nvGraphicFramePr>
            <p:cNvPr id="126" name=""/>
            <p:cNvGraphicFramePr/>
            <p:nvPr/>
          </p:nvGraphicFramePr>
          <p:xfrm>
            <a:off x="2590920" y="1900080"/>
            <a:ext cx="3962160" cy="3988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590920" y="1900080"/>
                      <a:ext cx="3962160" cy="398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 txBox="1"/>
            <p:nvPr/>
          </p:nvSpPr>
          <p:spPr>
            <a:xfrm>
              <a:off x="3816360" y="2260440"/>
              <a:ext cx="139716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DUH?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aphicFrame>
        <p:nvGraphicFramePr>
          <p:cNvPr id="129" name=""/>
          <p:cNvGraphicFramePr/>
          <p:nvPr/>
        </p:nvGraphicFramePr>
        <p:xfrm>
          <a:off x="255600" y="5521320"/>
          <a:ext cx="1298520" cy="107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5600" y="552132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>
            <a:hlinkClick r:id="rId8"/>
          </p:cNvPr>
          <p:cNvSpPr/>
          <p:nvPr/>
        </p:nvSpPr>
        <p:spPr>
          <a:xfrm>
            <a:off x="344520" y="548640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TAS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3962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mp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ete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yst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ournal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275040" indent="-182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iv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905120"/>
            <a:ext cx="4800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sensus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ersua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elf-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naly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ud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76560" indent="-191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ienti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>
            <a:hlinkClick r:id="rId3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ROCE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45720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mpare/Contr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ncept Cre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ynth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55760" indent="-231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ummariz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743200"/>
            <a:ext cx="4190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roblem-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ecision-m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olicy 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465120" indent="-236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9051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lvl="2" marL="19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4221000"/>
                <a:tab algn="r" pos="840744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INPU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Times New Roman"/>
              </a:rPr>
              <a:t>TRANSFORMATIO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600" y="5514840"/>
          <a:ext cx="129852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5514840"/>
                    <a:ext cx="129852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>
            <a:hlinkClick r:id="rId3"/>
          </p:cNvPr>
          <p:cNvSpPr/>
          <p:nvPr/>
        </p:nvSpPr>
        <p:spPr>
          <a:xfrm>
            <a:off x="344520" y="5479920"/>
            <a:ext cx="1066680" cy="13716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371600"/>
              <a:gd name="textAreaBottom" fmla="*/ 1302480 h 1371600"/>
            </a:gdLst>
            <a:ahLst/>
            <a:rect l="textAreaLeft" t="textAreaTop" r="textAreaRight" b="textAreaBottom"/>
            <a:pathLst>
              <a:path w="21600" h="27772">
                <a:moveTo>
                  <a:pt x="0" y="0"/>
                </a:moveTo>
                <a:lnTo>
                  <a:pt x="21600" y="0"/>
                </a:lnTo>
                <a:lnTo>
                  <a:pt x="21600" y="27772"/>
                </a:lnTo>
                <a:lnTo>
                  <a:pt x="0" y="27772"/>
                </a:lnTo>
                <a:close/>
              </a:path>
              <a:path fill="lightenLess" w="21600" h="277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72">
                <a:moveTo>
                  <a:pt x="21600" y="0"/>
                </a:moveTo>
                <a:lnTo>
                  <a:pt x="21600" y="27772"/>
                </a:lnTo>
                <a:lnTo>
                  <a:pt x="20200" y="26373"/>
                </a:lnTo>
                <a:lnTo>
                  <a:pt x="20200" y="1400"/>
                </a:lnTo>
                <a:close/>
              </a:path>
              <a:path fill="darkenLess" w="21600" h="27772">
                <a:moveTo>
                  <a:pt x="21600" y="27772"/>
                </a:moveTo>
                <a:lnTo>
                  <a:pt x="0" y="27772"/>
                </a:lnTo>
                <a:lnTo>
                  <a:pt x="1400" y="26373"/>
                </a:lnTo>
                <a:lnTo>
                  <a:pt x="20200" y="26373"/>
                </a:lnTo>
                <a:close/>
              </a:path>
              <a:path fill="lighten" w="21600" h="27772">
                <a:moveTo>
                  <a:pt x="0" y="277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988400" y="5468760"/>
          <a:ext cx="1155600" cy="13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8400" y="5468760"/>
                    <a:ext cx="11556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6:54:02Z</dcterms:created>
  <dc:creator>d</dc:creator>
  <dc:description/>
  <dc:language>en-US</dc:language>
  <cp:lastModifiedBy>Howard County Public Schools</cp:lastModifiedBy>
  <dcterms:modified xsi:type="dcterms:W3CDTF">2008-07-16T11:22:47Z</dcterms:modified>
  <cp:revision>100</cp:revision>
  <dc:subject/>
  <dc:title>WHY WEBQUESTS?</dc:title>
</cp:coreProperties>
</file>